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E68-8C7E-47BE-8643-8FFCC64B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021-F740-4B02-AEAC-0677B84F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F91-5E47-4BAE-966B-6DE7E012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4BB-72E4-4D46-B216-07B9D222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A876-220A-4FC9-85C5-917E024E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B089-1A4D-4B4D-814D-4DA02D8F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4322-FC8C-4634-A3CF-95AE1797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455E-A09C-400A-9838-24B0CEC6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2B54-B644-4B50-9B42-8A32BAD8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0F7F-9248-4C21-9AFE-356892EF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95ED-7964-49C7-A4F9-32124682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FB6-1EC8-41A0-A7B1-9BF9251A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F066-F0F9-4C5E-9C88-55CE9C5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9B80-4541-43AB-8B95-4416D4F2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4127-2F36-4DAA-867B-79348181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2070-6D9A-44C7-B2BF-A512B659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E79B-BC73-4ABB-88D0-1761794E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986-F1D6-490C-8DF5-14252118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9DB-05BE-48A7-91CF-41A3959B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2EC-7E4C-461D-A06C-0AF68FE8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7F5-07DD-40AF-AFC0-8A3BA8B6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0F3-03B8-4D07-A823-1491E6E9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C55-D163-4CFD-A1A5-11CAD2C2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AC4-A3DF-4CEC-A423-870AE581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222D-546A-4F04-9CFE-1A566DFCB3E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7C41-AFE7-48C1-ACD7-C4C90104914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7280" y="3573360"/>
            <a:ext cx="647712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ي عظيم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052640"/>
            <a:ext cx="7880400" cy="39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ffffff"/>
                </a:solidFill>
                <a:uFillTx/>
                <a:latin typeface="Tahoma"/>
                <a:cs typeface="AF_Diwani"/>
              </a:rPr>
              <a:t>نشيد المناولة: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ربي عظيمةٌ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أعمالِكَ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َنا القدير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عدلٌ وحقٌ كلُّ أحكامِك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أنتَ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َلِكُ الدّهور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1424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مَن لا يمجِّد اسمَك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يا رب مَن لا يَخافُ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قُدسَك يا ألله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1058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شّعوب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َكَ سَتَنحني لأنَّ مَجْدَك سَيُرى. هللويا آمين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1:28:31Z</dcterms:created>
  <dc:creator>Charbel Azar</dc:creator>
  <dc:description/>
  <dc:language>en-US</dc:language>
  <cp:lastModifiedBy>-</cp:lastModifiedBy>
  <dcterms:modified xsi:type="dcterms:W3CDTF">2003-01-16T10:09:43Z</dcterms:modified>
  <cp:revision>5</cp:revision>
  <dc:subject/>
  <dc:title>Slide 1</dc:title>
</cp:coreProperties>
</file>